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15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71B-207B-49AD-9968-4A377B87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292-E2F4-4D72-BE2D-4916D272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9F7-AAD4-4606-9E2A-6CAD450A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6E9-9008-4B50-A77D-384C3B4E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8A1F-335E-44A4-901A-2404340B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C3DB-4D38-46AE-9C12-3AF7A914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4A9F-8ADD-4D08-AB07-B7CA1B45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D0DF-2859-4434-B0F8-D5CE26C8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E096-E719-424F-8534-4E50BF4C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22D3-F3C6-4857-942F-7F8755B3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BB80-CA08-4A38-AEB8-34A3B580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C7F-6227-447B-9DA5-517E1E86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3A82-DE67-48A2-994B-205A1D3B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E86F-3176-4B4A-8049-5E92AB8A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CDB2-0256-4AD3-ACF6-E2BA2317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4C7B-2CCD-461A-8D22-D19154AB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DE2F-538B-41B6-88C1-1EF949F5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1AC-B8BB-459D-B4C4-6CA40712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DC6-0C5D-46D9-9582-D2371D77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A80-3031-4BC9-BEFE-B0C99B7C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2F9-C77E-40B5-BAC3-8632A39F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2305-16FF-44E1-AC76-6F509DE5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D36-919E-437C-8153-0956C361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D384-0885-439E-84BB-19D28BC1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73B1-6F10-4FA1-8BA6-B9D892B815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CC92-8DC7-4F45-BA54-2D2A8CC551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strialization &amp; Re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y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strial 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9520" y="1752120"/>
            <a:ext cx="4876920" cy="3581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derbi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t steamships, and buying up rail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ckefell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Oil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famous for the light bu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ed develop the first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1366560" cy="190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28600" y="2590920"/>
            <a:ext cx="1454040" cy="2108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905120" y="1523880"/>
            <a:ext cx="1592280" cy="190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1981080" y="3581280"/>
            <a:ext cx="1778040" cy="1766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14144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191120" cy="44197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Lab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heal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ken glass all over the fl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ed to intense heat &amp; heavy f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m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743200" y="4800600"/>
            <a:ext cx="2260440" cy="1682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343400" y="1447920"/>
            <a:ext cx="3276720" cy="260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334120" y="4189320"/>
            <a:ext cx="330192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or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648320" cy="46483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krakers &amp; Upton Sincl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kraking was a type of journalism that helped uncover “bad” things that most American’s didn’t know of. Sinclair exposed the misfortune of the lowe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ob Ri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ed living conditions (tene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a Tarbe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ed the Standard Oil Company- monopo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1414440" cy="190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086600" y="3048120"/>
            <a:ext cx="147780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952880" y="4114800"/>
            <a:ext cx="1695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ormer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760" y="1980720"/>
            <a:ext cx="464796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 Rooseve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ed w/ Congress to pass reforms to ensure greater food safety, conservation of land &amp; natural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 Wils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ted reforms such as Federal Trade Commission to regulate busi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2514600" cy="2270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905120" y="4191120"/>
            <a:ext cx="207144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en’s Suff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371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th amendement gave women the right to vote in e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51181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3:55:08Z</dcterms:created>
  <dc:creator>Yarmouth Schools</dc:creator>
  <dc:description/>
  <dc:language>en-US</dc:language>
  <cp:lastModifiedBy>YHS Teacher</cp:lastModifiedBy>
  <dcterms:modified xsi:type="dcterms:W3CDTF">2009-06-15T14:42:30Z</dcterms:modified>
  <cp:revision>3</cp:revision>
  <dc:subject/>
  <dc:title>Industrialization &amp; Reform</dc:title>
</cp:coreProperties>
</file>